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39600"/>
            <a:ext cx="49532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rican Kingd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4" action="ppaction://hlinksldjump"/>
          </p:cNvPr>
          <p:cNvSpPr/>
          <p:nvPr/>
        </p:nvSpPr>
        <p:spPr>
          <a:xfrm>
            <a:off x="6915240" y="617220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2040" y="630360"/>
            <a:ext cx="8359920" cy="5313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1520" y="1236600"/>
            <a:ext cx="6048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5181480"/>
            <a:ext cx="8229600" cy="7038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bout 2500 BC many people in these regions practiced herding and mixed far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143000"/>
            <a:ext cx="8229600" cy="10087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hropologists think that the first humans lived in East Africa. Over thousands of years, people spread out over the continent, forming distinct cultures and socie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2209680"/>
            <a:ext cx="4038120" cy="2920320"/>
            <a:chOff x="457200" y="2209680"/>
            <a:chExt cx="4038120" cy="2920320"/>
          </a:xfrm>
        </p:grpSpPr>
        <p:sp>
          <p:nvSpPr>
            <p:cNvPr id="96" name=""/>
            <p:cNvSpPr/>
            <p:nvPr/>
          </p:nvSpPr>
          <p:spPr>
            <a:xfrm>
              <a:off x="457200" y="2720160"/>
              <a:ext cx="4038120" cy="240984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ring early phase of their history, Africans lived as hunter-gather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out 9,000 years ago, some began to grow native cr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some parts, pastoralism, practice of raising herd animals, arose before farm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2209680"/>
              <a:ext cx="4038120" cy="51048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arly Farming Socie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African Soci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8320" y="2209680"/>
            <a:ext cx="4038120" cy="2920320"/>
            <a:chOff x="4648320" y="2209680"/>
            <a:chExt cx="4038120" cy="2920320"/>
          </a:xfrm>
        </p:grpSpPr>
        <p:sp>
          <p:nvSpPr>
            <p:cNvPr id="100" name=""/>
            <p:cNvSpPr/>
            <p:nvPr/>
          </p:nvSpPr>
          <p:spPr>
            <a:xfrm>
              <a:off x="4648320" y="2720160"/>
              <a:ext cx="4038120" cy="240984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st farmers likely pastoralists of Sahara—wetter 8,000 years a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,000 years ago climate changed, Sahara became d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 land became desert, people migrated to Mediterranean coast, Nile Valley, parts of West Af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8320" y="2209680"/>
              <a:ext cx="4038120" cy="51048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astoralists in Saha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143000"/>
            <a:ext cx="8229600" cy="139968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mon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ocieties developed village-based cul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heart, extended family living in one house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ies with common ancestors formed clans to which all members loy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276800"/>
            <a:ext cx="8229600" cy="167400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cific Du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yalty to family, age-sets helped village members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 hunted, farmed; women cared for children, farmed, did domestic ch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very old, very young had own tasks; elders often taught traditions to younger gen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732040"/>
            <a:ext cx="8229600" cy="139968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ge-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areas, people took part in type of group called age-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 who had been born within same two, three years formed special b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 in same age-set had duty to help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143000"/>
            <a:ext cx="8076960" cy="7038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early Africans shared similar religious beliefs and shared common features in the arts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3520" y="1936800"/>
            <a:ext cx="3885840" cy="4006800"/>
            <a:chOff x="533520" y="1936800"/>
            <a:chExt cx="3885840" cy="4006800"/>
          </a:xfrm>
        </p:grpSpPr>
        <p:sp>
          <p:nvSpPr>
            <p:cNvPr id="109" name=""/>
            <p:cNvSpPr/>
            <p:nvPr/>
          </p:nvSpPr>
          <p:spPr>
            <a:xfrm>
              <a:off x="533520" y="2368080"/>
              <a:ext cx="3885840" cy="35755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y believed that unseen spirits of ancestors stayed 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 honor spirits, families marked certain places as sacred places, put specially carved statues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amilies gathered to share news, food with ancestors, hoping spirits would protect th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3520" y="1936800"/>
              <a:ext cx="3885840" cy="4312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xamples of Belie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724280" y="1936800"/>
            <a:ext cx="3885840" cy="4006800"/>
            <a:chOff x="4724280" y="1936800"/>
            <a:chExt cx="3885840" cy="4006800"/>
          </a:xfrm>
        </p:grpSpPr>
        <p:sp>
          <p:nvSpPr>
            <p:cNvPr id="112" name=""/>
            <p:cNvSpPr/>
            <p:nvPr/>
          </p:nvSpPr>
          <p:spPr>
            <a:xfrm>
              <a:off x="4724280" y="2368080"/>
              <a:ext cx="3885840" cy="35755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y Africans also practiced form of religion called animism—belief that bodies of water, animals, trees, other natural objects have spir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imism reflected Africans’ close ties to natural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1936800"/>
              <a:ext cx="3885840" cy="4312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nimis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igion and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52680"/>
            <a:ext cx="8229600" cy="243864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c and 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ny societies, music, dance central to many celebrations, rit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ving, wearing of elaborate masks part of these rituals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Africans excelled in sculpture, bronze as well as terra co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music performed with variety of wind, stringed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914400"/>
            <a:ext cx="8229600" cy="22096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early societies did not develop systems of wr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sense of identity, continuity through oral tra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d stories, songs, poems, prove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of remembering, passing on entrusted to storyteller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i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976320"/>
            <a:ext cx="8229600" cy="25574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id family ties play in early African cul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1640" y="3809880"/>
            <a:ext cx="8153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milies were the heart of village life. Each person was expected to be loyal to his extended family, and each member of a family had his or her own t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1143000"/>
            <a:ext cx="8076960" cy="7038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 of iron technology after the 500s BC changed farming practices in sub-Saharan Africa. As a result, African society chan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33520" y="1908000"/>
            <a:ext cx="3885840" cy="4035240"/>
            <a:chOff x="533520" y="1908000"/>
            <a:chExt cx="3885840" cy="4035240"/>
          </a:xfrm>
        </p:grpSpPr>
        <p:sp>
          <p:nvSpPr>
            <p:cNvPr id="122" name=""/>
            <p:cNvSpPr/>
            <p:nvPr/>
          </p:nvSpPr>
          <p:spPr>
            <a:xfrm>
              <a:off x="533520" y="2342160"/>
              <a:ext cx="3885840" cy="36010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00 BC, techniques for refining iron from iron ore chang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w possible to produce tools, weapons superior to those they had made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one of earliest known peoples to practice iron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ved in what is now Nigeria, West Africa; learned to make iron tools, weap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1908000"/>
              <a:ext cx="3885840" cy="4341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ron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724280" y="1908000"/>
            <a:ext cx="3885840" cy="4035240"/>
            <a:chOff x="4724280" y="1908000"/>
            <a:chExt cx="3885840" cy="4035240"/>
          </a:xfrm>
        </p:grpSpPr>
        <p:sp>
          <p:nvSpPr>
            <p:cNvPr id="125" name=""/>
            <p:cNvSpPr/>
            <p:nvPr/>
          </p:nvSpPr>
          <p:spPr>
            <a:xfrm>
              <a:off x="4724280" y="2342160"/>
              <a:ext cx="3885840" cy="36010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 better-equipped farmers, hunters, warriors, Nok grew in 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came known for making fine sculptures out of terra-cot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ron tools enabled Africans to cut down trees, clear land, and live in new are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rvival easier, Africa’s population increas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908000"/>
              <a:ext cx="3885840" cy="4341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opulation Grow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rica’s Iron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antu Mig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iculture, ironworking technology spread throughout Africa because of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groups in Africa spoke related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ted from language called Proto-Ba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in what is now Cameroon, 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 more than 2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nguages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131" name="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y AD 900s, Bantu-speaking peoples had established complex social 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men farmed, men mostly tended catt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ttle important food source, used in ritual sacrif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tus in Bantu societies determined by size of cattle he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antu Social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134" name="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ntu-speaking people gradually migrated east, south during first centuries 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 they traveled, Bantu speakers carried knowledge of agriculture, iron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cause of knowledge, established themselves as dominant group when they reached southern Afr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ig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tu-speaking Peo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82760" y="785880"/>
            <a:ext cx="6378480" cy="49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919080"/>
            <a:ext cx="8229600" cy="2529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African societies change with the spread of iron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3722760"/>
            <a:ext cx="81532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ronworking enabled Africans to live in places where they could not before the population gr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Starting Points Map: Environments of Afri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Main Idea / Reading Foc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The Geography of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Early Africa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Africa’s Iron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: Bantu Mig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arly Civilizations in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230880" y="2457360"/>
            <a:ext cx="600120" cy="1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6920" y="639720"/>
            <a:ext cx="4608720" cy="5303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7760" y="741240"/>
            <a:ext cx="1766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he icon to play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sten to Histo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27240" y="1317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18840" y="2997720"/>
            <a:ext cx="2508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s and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03160" y="2979720"/>
            <a:ext cx="600120" cy="1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0760" y="2054160"/>
            <a:ext cx="1766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he icon below to connect to the Interactive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26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Africa’s diverse geography shape life on the contin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ultural patterns did Africa’s early societies shar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major changes affected societies during Africa’s Iron Ag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rica’s earliest people adapted to a wide range of geographic conditions to establish societies based on family ties, religion, iron technology, and tra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Civilizations in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1143000"/>
            <a:ext cx="8076960" cy="100872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’s large size—more than three times the size of the United States—and its location have led to a wide variety of climates and vegetation. As a result, distinct cultures and ways of life develo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3520" y="2209680"/>
            <a:ext cx="2590560" cy="3657240"/>
            <a:chOff x="533520" y="2209680"/>
            <a:chExt cx="2590560" cy="3657240"/>
          </a:xfrm>
        </p:grpSpPr>
        <p:sp>
          <p:nvSpPr>
            <p:cNvPr id="62" name=""/>
            <p:cNvSpPr/>
            <p:nvPr/>
          </p:nvSpPr>
          <p:spPr>
            <a:xfrm>
              <a:off x="533520" y="2603160"/>
              <a:ext cx="2590560" cy="32637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inent has varied landsca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teaus cover much of central, southern inter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w, wide plains across northern, western inter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2209680"/>
              <a:ext cx="2590560" cy="3934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Landfor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276720" y="2209680"/>
            <a:ext cx="2590560" cy="3657240"/>
            <a:chOff x="3276720" y="2209680"/>
            <a:chExt cx="2590560" cy="3657240"/>
          </a:xfrm>
        </p:grpSpPr>
        <p:sp>
          <p:nvSpPr>
            <p:cNvPr id="65" name=""/>
            <p:cNvSpPr/>
            <p:nvPr/>
          </p:nvSpPr>
          <p:spPr>
            <a:xfrm>
              <a:off x="3276720" y="2603160"/>
              <a:ext cx="2590560" cy="32637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st, region of deep, steep-sided valleys, narrow lak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untain ranges rim Africa, example Ethiopian Highlands in northe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76720" y="2209680"/>
              <a:ext cx="2590560" cy="3934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alleys, Mounta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019920" y="2209680"/>
            <a:ext cx="2590560" cy="3657240"/>
            <a:chOff x="6019920" y="2209680"/>
            <a:chExt cx="2590560" cy="3657240"/>
          </a:xfrm>
        </p:grpSpPr>
        <p:sp>
          <p:nvSpPr>
            <p:cNvPr id="68" name=""/>
            <p:cNvSpPr/>
            <p:nvPr/>
          </p:nvSpPr>
          <p:spPr>
            <a:xfrm>
              <a:off x="6019920" y="2603160"/>
              <a:ext cx="2590560" cy="32637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ar coastline, land drops off to coastal pla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me provide fertile farmland, others desert, swamp, sandy beach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9920" y="2209680"/>
              <a:ext cx="2590560" cy="3934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astal Pla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eography of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143000"/>
            <a:ext cx="8229600" cy="21337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’s climate also quite var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ern Africa dominated by Sahara, largest desert i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es 3,000 miles between Atlantic Ocean, Red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ren landscape includes mountains, plateaus, plains, sand d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s in desert climb above 120°F, rain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oases scattered throughout desert, some support vill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57200" y="3352680"/>
            <a:ext cx="4038120" cy="2590560"/>
            <a:chOff x="457200" y="3352680"/>
            <a:chExt cx="4038120" cy="2590560"/>
          </a:xfrm>
        </p:grpSpPr>
        <p:sp>
          <p:nvSpPr>
            <p:cNvPr id="73" name=""/>
            <p:cNvSpPr/>
            <p:nvPr/>
          </p:nvSpPr>
          <p:spPr>
            <a:xfrm>
              <a:off x="457200" y="3805560"/>
              <a:ext cx="4038120" cy="21376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uth of Sahara, mighty rivers flow across plains, including Congo, Zambezi, Ni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on called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he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strip of land dividing desert, wetter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hel fairly dry, but has vegetation to support hardy grazing anim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3352680"/>
              <a:ext cx="4038120" cy="4528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Sah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48320" y="3352680"/>
            <a:ext cx="4038120" cy="2590560"/>
            <a:chOff x="4648320" y="3352680"/>
            <a:chExt cx="4038120" cy="2590560"/>
          </a:xfrm>
        </p:grpSpPr>
        <p:sp>
          <p:nvSpPr>
            <p:cNvPr id="76" name=""/>
            <p:cNvSpPr/>
            <p:nvPr/>
          </p:nvSpPr>
          <p:spPr>
            <a:xfrm>
              <a:off x="4648320" y="3805560"/>
              <a:ext cx="4038120" cy="21376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rther south, band of tropical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vann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open grassl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nds east from Central Africa, wraps back toward sou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ll grasses, shrubs, trees grow there; variety of herd animals, majority of Africans live t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8320" y="3352680"/>
              <a:ext cx="4038120" cy="4528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Savan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te and Veg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4660920" y="1371600"/>
            <a:ext cx="4025520" cy="4495320"/>
            <a:chOff x="4660920" y="1371600"/>
            <a:chExt cx="4025520" cy="4495320"/>
          </a:xfrm>
        </p:grpSpPr>
        <p:sp>
          <p:nvSpPr>
            <p:cNvPr id="80" name=""/>
            <p:cNvSpPr/>
            <p:nvPr/>
          </p:nvSpPr>
          <p:spPr>
            <a:xfrm>
              <a:off x="4660920" y="1855440"/>
              <a:ext cx="4025520" cy="40114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5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uthern Africa consists mainly of hilly grasslands, deserts, high coastal strip of 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5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on experiences mild Mediterranean climate, warm temperatures and both summer, winter rai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60920" y="1371600"/>
              <a:ext cx="4025520" cy="4838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outhern Af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" y="1371600"/>
            <a:ext cx="4025520" cy="4495320"/>
            <a:chOff x="457200" y="1371600"/>
            <a:chExt cx="4025520" cy="4495320"/>
          </a:xfrm>
        </p:grpSpPr>
        <p:sp>
          <p:nvSpPr>
            <p:cNvPr id="83" name=""/>
            <p:cNvSpPr/>
            <p:nvPr/>
          </p:nvSpPr>
          <p:spPr>
            <a:xfrm>
              <a:off x="457200" y="1855440"/>
              <a:ext cx="4025520" cy="40114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5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opical rain forests found near equator and on Madagascar, island off southeast co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5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t, humid climate, year-round rainfall of rain forest supports broad range of plant, animal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1371600"/>
              <a:ext cx="4025520" cy="4838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ropical Rain Fore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quator and farther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143000"/>
            <a:ext cx="8229600" cy="14886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ried Cl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eople to live in Africa had to adapt to varied climates,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fficient water supplies, poor soil in some places made farming diffic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all—too much, too little—presented problems that continue 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273560"/>
            <a:ext cx="8229600" cy="167724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sects, Para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es thrive in tropical areas; transmitted by mosquitoes to humans, animals; can lead to deadly diseases like mal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etse fly, sub-Saharan Africa, carries parasite than can kill livestock, infect humans with sleeping sickness, potentially fatal il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689200"/>
            <a:ext cx="8229600" cy="148860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y rains erode soil, wash away nutrients important for growing cr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fficient rainfall leads to drought, poor grazing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s must decide which crops to grow based on expected rain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ng to Africa’s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5920" y="961920"/>
            <a:ext cx="8229600" cy="25876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hallenges can Africa’s environment pose to people living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1760" y="3852720"/>
            <a:ext cx="81532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ufficient water supplies, poor soil, and too much or too little rain can cause problems for farmers; tropical parasites can spread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ripkensa</cp:lastModifiedBy>
  <cp:lastPrinted>2005-02-01T16:21:45Z</cp:lastPrinted>
  <dcterms:modified xsi:type="dcterms:W3CDTF">2009-11-01T15:16:05Z</dcterms:modified>
  <cp:revision>258</cp:revision>
  <dc:subject/>
  <dc:title>PowerPoint Presentation</dc:title>
</cp:coreProperties>
</file>